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735-E00F-4983-A0A0-079AF8C5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EC9-CDCD-4D67-B45D-4C6BED5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31D-6C77-4692-99B2-E0AC1F37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AA8-4994-48F7-A118-0620F0D6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C0C-1800-40DB-98B4-FE36FFB9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BE8-C7CD-4567-B662-73DCC230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DDE-B3AC-4E59-9ABF-BC03A73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C03-9BAA-4EFA-9EC5-50CE68D5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B37-BA65-4772-968E-FB440A07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8D6-707D-498B-AB89-5E3BE49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3BC-3809-403D-A57D-2A7032C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DE5-FF55-4DF3-9534-12355AF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11E-05A9-42B8-A41B-3F26384C888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&lt;&lt;Ο αριθμός Π&gt;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ις 14/3 γιορτάζεται ο αριθμός &lt;&lt;Π&gt;&gt; , που ισούται με 3,14 η λεγόμενη 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αριθμός &lt;&lt;Π&gt;&gt; έχει ατελείωτο αποτέλεσμα σύμφωνα με υπολογισμούς πανίσχυρων υπολογιστών. Ο αριθμός δεκαδικών ψηφίων που έχει καταγραφεί είναι 1.241.500.000.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υπόλοιπα ψηφία του είναι άγνωστα. Ακόμα είναι σημαντικό να πούμε ότι αν ψάξεις μέσα στα δεκαδικά ψηφία του &lt;&lt;Π&gt;&gt; θα βρει διάφορες εικόνες αστρολογίες και ημερομηνίες που έχουν σχέση με την ζωή σου (π.χ. ημερομηνία γεννήσεων κλ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i_zhe_magic_number_by_MFserver (1)"/>
          <p:cNvPicPr/>
          <p:nvPr/>
        </p:nvPicPr>
        <p:blipFill>
          <a:blip r:embed="rId1"/>
          <a:stretch/>
        </p:blipFill>
        <p:spPr>
          <a:xfrm>
            <a:off x="6443640" y="5165640"/>
            <a:ext cx="2592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484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λαιότερα κάθε λαός είχε την ανάγκη να εκφράζει τους αριθμούς με δικά του συμβολικά σημεί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παράδειγμα άλλ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ησιμοποιούσαν οι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ιγύπτιοι , άλλα ο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λληνες , άλλα ο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Άραβες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mages (15)"/>
          <p:cNvPicPr/>
          <p:nvPr/>
        </p:nvPicPr>
        <p:blipFill>
          <a:blip r:embed="rId1"/>
          <a:stretch/>
        </p:blipFill>
        <p:spPr>
          <a:xfrm>
            <a:off x="0" y="4762440"/>
            <a:ext cx="2181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355640" y="2060640"/>
            <a:ext cx="41101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Έλληνες χρησιμοποιούσαν συμβολικά ψηφία για αριθμούς τα γράμματα του Ελληνικού αλφαβήτου π.χ. α=1, β=2. Οι Ρωμαίοι χρησιμοποιούσαν γραμμές π.χ. 3 = ΙΙΙ, 4 = 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5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την βοήθεια των Αράβων για τους Έλληνες και τους Ρωμαίους λύθηκε το πρόβλημα της απουσίας του μηδενός καθώς οι Άραβες συμπεριέλαβαν το 0 στο αριθμητικό τους σύστημ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αρχείο λήψης (1)"/>
          <p:cNvPicPr/>
          <p:nvPr/>
        </p:nvPicPr>
        <p:blipFill>
          <a:blip r:embed="rId1"/>
          <a:stretch/>
        </p:blipFill>
        <p:spPr>
          <a:xfrm>
            <a:off x="0" y="501984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νούμερα 1,2,3,4,5,6,7,8,9,0 ονομάζονται ψηφία οι Αραβικοί χαρακτήρες.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χουμε διάφορα είδη αριθμών όπως :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 τους ακέραιους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 τους κλασματικούς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 τους μεικτούς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ν αριθμητική. τους περιττούς και τους άρτιους.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mages (14)"/>
          <p:cNvPicPr/>
          <p:nvPr/>
        </p:nvPicPr>
        <p:blipFill>
          <a:blip r:embed="rId1"/>
          <a:stretch/>
        </p:blipFill>
        <p:spPr>
          <a:xfrm>
            <a:off x="0" y="501984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ακόμα είδο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ην Άλγεβρα είναι οι θετικοί αριθμοί οι οποίοι είναι μεγαλύτεροι από το 0 και έχουν για πρόσημο το (+)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οι αρνητικοί οι οποίοι είναι μικρότεροι από το 0 και έχουν για πρόσημο το (-)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κόμη έχουμε του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τίθετους δηλαδή 2 αριθμούς έναν θετικό και έναν αρνητικό που το άθροισμα τους δίνει 0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.χ. (-2)+(+2)=0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ίσης οι αντίστροφοι είναι  2 αριθμοί που το γινόμενο τους είναι ίσο με 1. π.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1|3)χ(3)=1 και τέλος έχουμε τους ρητούς και τους αρρήτους , όπου οι ρητοί γράφονται με μορφή κλάσματος και οι άρρητοι όχι. </a:t>
            </a:r>
            <a:br>
              <a:rPr sz="1600"/>
            </a:b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mages (10)"/>
          <p:cNvPicPr/>
          <p:nvPr/>
        </p:nvPicPr>
        <p:blipFill>
          <a:blip r:embed="rId1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292720" y="47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εριττοί αριθμοί (μονοί) συμβολίζουν τη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ρμονία και οι άρτιοι την σύγχυση. 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αρχείο λήψης"/>
          <p:cNvPicPr/>
          <p:nvPr/>
        </p:nvPicPr>
        <p:blipFill>
          <a:blip r:embed="rId1"/>
          <a:stretch/>
        </p:blipFill>
        <p:spPr>
          <a:xfrm>
            <a:off x="3419640" y="1700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21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&lt;&lt;Π&gt;&gt; δεν είναι κατασκευασμένος αριθμός και δεν αποτελεί ρίζα καμίας αλγεβρικής εξίσωσης με ρητούς συντελεστέ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ώ κατασκευάσιμο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οι αριθμοί που οι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τεταγμένες όλων τον σημε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ούν να κατασκευαστούν μ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νόνα, καθώς δεν μπορούνε ν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τραγωνίσουνε τον κύκλο. Μ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άλλα λόγια είναι αδύνατον ν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σκευάσουμ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ώντας μόνο κανόν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διαβήτη, ένα τετράγωνο μ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μβαδόν ίσο προς το εμβαδό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δομένου κύκλ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images (16)"/>
          <p:cNvPicPr/>
          <p:nvPr/>
        </p:nvPicPr>
        <p:blipFill>
          <a:blip r:embed="rId1"/>
          <a:stretch/>
        </p:blipFill>
        <p:spPr>
          <a:xfrm>
            <a:off x="6438960" y="5162400"/>
            <a:ext cx="27050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42764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χουν ανακαλυφθεί κάποια στιχάκια σε διάφορες γλώσσες τα οποία συμπίπτουν με 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ώτα 23 δεκαδικά ψηφία του &lt;&lt;Π&gt;&gt; και βοηθάν στην απομνημόνευση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images (4)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7640" y="0"/>
            <a:ext cx="4608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ν Πλάτωνα αποδίδετε η φράση &lt;Αει ο θεός ο Μέγας γεωμέτρη&gt; που ισούται με τους έξεις αριθμούς (3-1-4-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-9)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Το κύκλου μήκος ίνα ορίσει διάμετρο&gt; που ισούται με τους έξεις αριθμού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2-6-5-3-5-8)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Παρήγαγε αριθμών απέραντων&gt; που ισούται με τους έξεις αριθμούς (9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7-9)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Και ον φεύ !&gt; που ισούται με τους έξεις αριθμούς (3-2-3)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Ουδέποτε όλον θνητοί θα εύρουση&gt; που ισούται με τους έξεις αριθμούς (8-4-6-2-7)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λείνοντας θα πρέπει να αναφέρουμε ότι το &lt;&lt;Π&gt;&gt; αποτελεί μια πολύ σημαντική επιρέαση του ανθρώπου, στα μαθηματικά καθώς μας βοήθησε να διευθετήσουμε διάφορα πράγμα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ως τώρα ήταν άγνωστα για τον άνθρωπο.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mages (12)"/>
          <p:cNvPicPr/>
          <p:nvPr/>
        </p:nvPicPr>
        <p:blipFill>
          <a:blip r:embed="rId1"/>
          <a:stretch/>
        </p:blipFill>
        <p:spPr>
          <a:xfrm>
            <a:off x="5724360" y="486900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4470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&lt;&lt;Π&gt;&gt; είναι ένας πραγματικός αριθμός που ορίζεται από το κλάσμα  της περιφερείας ενός κύκλου προς την διάμετρο του (Π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α πρώτα 20 δεκαδικά ψηφία είναι τα εξής : 3,1415926535897932384. Τα οποία ανακάλυψε ο Αρχιμήδης με έναν υπολογισμό του για αυτό και ονομάζετ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σταθερά του Αρχιμήδ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1620720" y="4791960"/>
            <a:ext cx="162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images (17)"/>
          <p:cNvPicPr/>
          <p:nvPr/>
        </p:nvPicPr>
        <p:blipFill>
          <a:blip r:embed="rId1"/>
          <a:stretch/>
        </p:blipFill>
        <p:spPr>
          <a:xfrm>
            <a:off x="6108840" y="2852640"/>
            <a:ext cx="2855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5600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υχαριστούμε για την προσοχή σας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&lt;&lt;Π&gt;&gt;ΑΡΤΑΛΑΔ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την υποστήριξη τους καθηγητέ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ΖΑΡΙΜΠΑ ΠΑΝΑΓΙΩΤ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ΠΟΤΖΑ ΑΘΑΝΑΣ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πρώτα 8 ψηφία του &lt;&lt;Π&gt;&gt; συμβολίζουν  14,01:59:26π.μ. που ονομάζεται 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secon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&gt;&gt; και αναφέρεται στις 14 Μαρτίου.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images (6)"/>
          <p:cNvPicPr/>
          <p:nvPr/>
        </p:nvPicPr>
        <p:blipFill>
          <a:blip r:embed="rId1"/>
          <a:stretch/>
        </p:blipFill>
        <p:spPr>
          <a:xfrm>
            <a:off x="6954840" y="0"/>
            <a:ext cx="21891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4038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1988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ορτάστηκε για πρώτη φορά ή 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day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&gt;&gt; στο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torioum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 το κοινό και τους υπαλλήλους του μουσείου επιστήμονες να σχηματίζουν κύκλους περπατώντα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images (3)"/>
          <p:cNvPicPr/>
          <p:nvPr/>
        </p:nvPicPr>
        <p:blipFill>
          <a:blip r:embed="rId1"/>
          <a:stretch/>
        </p:blipFill>
        <p:spPr>
          <a:xfrm>
            <a:off x="6983280" y="414972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55640" y="259920"/>
            <a:ext cx="40388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λεγόμενος 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 of Pi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arry Shaw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ο πατέρας αυτής της ημέρας , ο οποίος έχει αποσυρθεί από την ενεργό δράση και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otorium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larry_shaw_72dpi"/>
          <p:cNvPicPr/>
          <p:nvPr/>
        </p:nvPicPr>
        <p:blipFill>
          <a:blip r:embed="rId1"/>
          <a:stretch/>
        </p:blipFill>
        <p:spPr>
          <a:xfrm>
            <a:off x="179280" y="3645000"/>
            <a:ext cx="39610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μέρα εορτασμού του &lt;&lt;Π&gt;&gt; συμπίπτει με τα γενέθλια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rt Einstei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, που γεννήθηκε στης 14/3/1879 στην πόλ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m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mages"/>
          <p:cNvPicPr/>
          <p:nvPr/>
        </p:nvPicPr>
        <p:blipFill>
          <a:blip r:embed="rId1"/>
          <a:stretch/>
        </p:blipFill>
        <p:spPr>
          <a:xfrm>
            <a:off x="6372360" y="3141720"/>
            <a:ext cx="234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ριθμός &lt;&lt;Π&gt;&gt; έχει συντελέσει στην πρόοδο της παγκόσμιας γλώσσ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mages (8)"/>
          <p:cNvPicPr/>
          <p:nvPr/>
        </p:nvPicPr>
        <p:blipFill>
          <a:blip r:embed="rId1"/>
          <a:stretch/>
        </p:blipFill>
        <p:spPr>
          <a:xfrm>
            <a:off x="6877080" y="2349360"/>
            <a:ext cx="2114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μέρα 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day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&gt;&gt; γιορτάζεται επίσης και στις 22 Ιουλίου , αφού αν διαιρέσουμε το 22 με το 7 προκύπτει το 3,14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 (13)"/>
          <p:cNvPicPr/>
          <p:nvPr/>
        </p:nvPicPr>
        <p:blipFill>
          <a:blip r:embed="rId1"/>
          <a:stretch/>
        </p:blipFill>
        <p:spPr>
          <a:xfrm>
            <a:off x="179280" y="3933720"/>
            <a:ext cx="43927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287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&lt;&lt;Π&gt;&gt; απασχολεί τον άνθρωπο εδώ και 4.000 χρόνια , καθώς ο υπολογισμός τ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πολύ δύσκολο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ικά η Βαβυλώνιοι μαζί με τους Αιγυπτίους ήταν αυτοί που χρησιμοποίησαν το &lt;&lt;Π&gt;&gt; ενώ αργότερα μαθηματικοί και Φιλόσοφοι από την Αρχαία Ελλάδα διατύπωσα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άφορα θεωρήματα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images (5)"/>
          <p:cNvPicPr/>
          <p:nvPr/>
        </p:nvPicPr>
        <p:blipFill>
          <a:blip r:embed="rId1"/>
          <a:stretch/>
        </p:blipFill>
        <p:spPr>
          <a:xfrm>
            <a:off x="6084720" y="3941640"/>
            <a:ext cx="2916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23:55Z</dcterms:created>
  <dc:creator>guess</dc:creator>
  <dc:description/>
  <dc:language>en-US</dc:language>
  <cp:lastModifiedBy>sakisbot</cp:lastModifiedBy>
  <dcterms:modified xsi:type="dcterms:W3CDTF">2013-03-26T16:34:50Z</dcterms:modified>
  <cp:revision>9</cp:revision>
  <dc:subject/>
  <dc:title>Διαφάνεια 1</dc:title>
</cp:coreProperties>
</file>